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C4A-0AAF-4110-A762-E4E4E28A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634B-3C13-4166-847B-1CDDD47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FE5-15DC-4EB4-9EC6-34B33829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A8F-50E1-4263-AE84-DB365F68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BB68-EE5D-456C-A00B-74C15B8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686-6E71-4BC1-89AB-0FB95A39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D6B4-A032-451B-8C8E-E6B6D1BB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F53-DB40-41DC-83D8-0A56F8C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25C-9D1D-4944-8E39-F3A3DCE6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B40-B739-4E14-95ED-8F846551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91A-7D1E-46D2-9C88-86FE31C2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809-E102-4D9E-A262-929B69C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1B2-8D7C-489E-AD13-9EA79669ADF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13Z</dcterms:created>
  <dc:creator> </dc:creator>
  <dc:description/>
  <dc:language>en-US</dc:language>
  <cp:lastModifiedBy> </cp:lastModifiedBy>
  <dcterms:modified xsi:type="dcterms:W3CDTF">2004-06-15T23:39:21Z</dcterms:modified>
  <cp:revision>1</cp:revision>
  <dc:subject/>
  <dc:title>Slide 1</dc:title>
</cp:coreProperties>
</file>